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7DAF-B45B-4E9A-8144-6A694115F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E9DA-D3F1-44EC-BE3E-0BAD0602D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955-EA2A-4ED3-8948-C573A2C77B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B03-23A7-49B8-B689-8778011376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2170-DAA7-4755-A2B3-86A667D7E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C26A-9CEC-49D9-BB18-8721C709CE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36EA-D48E-45CA-974E-E17D542D3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EAD-21BA-4EF2-B174-45ED948FD6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62A4-C5BE-4133-8E44-53BD09D90C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5B87-A6D8-48E2-B2ED-72B2D1793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032-448D-449D-A102-4FEFEA1AA9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579600" y="260280"/>
            <a:ext cx="5678280" cy="4259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88440" y="4669920"/>
            <a:ext cx="592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8691-72BF-4DEF-B5FC-EDB4577DD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821-7360-4B53-8164-178785E8B6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5B41-9282-4C77-83B1-23A508718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7224-613F-4F90-B858-26F9F11EDC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7D56-B68E-4C23-BE75-B87D540431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579600" y="260280"/>
            <a:ext cx="5676840" cy="42577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0600" y="4671720"/>
            <a:ext cx="59227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48B0-902E-47D4-B975-D4F3BA56B4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7757-5BC2-4A30-8FCA-10EB6DF843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53BD-48EE-43FA-9C2A-AA78CCCC51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EB5D-9563-4DA8-9415-5D9BB366F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4044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532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5556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4044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532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5200" y="438120"/>
            <a:ext cx="7116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4044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532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556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4044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532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55200" y="438120"/>
            <a:ext cx="7116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d1d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58480" indent="-2584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640" indent="-2599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000" indent="-176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816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056600" y="666252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198240" y="6662520"/>
            <a:ext cx="152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Cisco  University Relations Europ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12920" y="6662520"/>
            <a:ext cx="1090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SMB 09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39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FF94B96-AFCE-4A84-9FA8-D25B18AB8D61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7896240" y="325440"/>
            <a:ext cx="1123920" cy="493560"/>
            <a:chOff x="7896240" y="325440"/>
            <a:chExt cx="1123920" cy="493560"/>
          </a:xfrm>
        </p:grpSpPr>
        <p:sp>
          <p:nvSpPr>
            <p:cNvPr id="8" name="AutoShape 10"/>
            <p:cNvSpPr/>
            <p:nvPr/>
          </p:nvSpPr>
          <p:spPr>
            <a:xfrm>
              <a:off x="7896240" y="325440"/>
              <a:ext cx="11239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11600" y="651960"/>
              <a:ext cx="5148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09680" y="648000"/>
              <a:ext cx="1479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98480" y="648000"/>
              <a:ext cx="1479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712000" y="648000"/>
              <a:ext cx="20304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328600" y="648000"/>
              <a:ext cx="13284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896240" y="458640"/>
              <a:ext cx="478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3160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163360" y="327240"/>
              <a:ext cx="4788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29908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430840" y="458640"/>
              <a:ext cx="514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56656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700840" y="327240"/>
              <a:ext cx="489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83404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968320" y="458640"/>
              <a:ext cx="4896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" name="Rectangle 25"/>
          <p:cNvSpPr/>
          <p:nvPr/>
        </p:nvSpPr>
        <p:spPr>
          <a:xfrm>
            <a:off x="193680" y="6672240"/>
            <a:ext cx="1787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700" spc="-1" strike="noStrike">
                <a:solidFill>
                  <a:srgbClr val="777777"/>
                </a:solidFill>
                <a:latin typeface="Arial"/>
              </a:rPr>
              <a:t>Graduate Recruitment NetReady 5/2007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d1d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5" descr="Holder - pt01 - BG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62" name="AutoShape 4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1015920" y="1035000"/>
              <a:ext cx="666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1400040" y="1028880"/>
              <a:ext cx="19080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741240" y="1028880"/>
              <a:ext cx="19080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1660680" y="1028880"/>
              <a:ext cx="26172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1166760" y="1028880"/>
              <a:ext cx="17136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609480" y="733320"/>
              <a:ext cx="61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78408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54000" y="528480"/>
              <a:ext cx="61920" cy="39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112860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1298520" y="733320"/>
              <a:ext cx="6660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47312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46280" y="528480"/>
              <a:ext cx="63360" cy="39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181764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1990800" y="733320"/>
              <a:ext cx="6336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" name="Picture 19" descr=""/>
          <p:cNvPicPr/>
          <p:nvPr/>
        </p:nvPicPr>
        <p:blipFill>
          <a:blip r:embed="rId3"/>
          <a:srcRect l="2155" t="30262" r="33918" b="0"/>
          <a:stretch/>
        </p:blipFill>
        <p:spPr>
          <a:xfrm>
            <a:off x="1440" y="1952640"/>
            <a:ext cx="9142560" cy="2381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58480" indent="-2584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640" indent="-2599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000" indent="-176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816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32040"/>
            <a:ext cx="4235400" cy="1154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eer Guidance Tools - Competency Based Intervie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Alfie Ham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Regional L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Sub-Saharan Africa (except East Afric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Cisco Networking Academ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LAE25194"/>
          <p:cNvPicPr/>
          <p:nvPr/>
        </p:nvPicPr>
        <p:blipFill>
          <a:blip r:embed="rId1"/>
          <a:stretch/>
        </p:blipFill>
        <p:spPr>
          <a:xfrm>
            <a:off x="5022720" y="1981080"/>
            <a:ext cx="4121280" cy="25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do they do i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y based interview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used in an effort to make the interview process as standard and as fair as possible. It is a technique which is being used increasingly in large organizations where many managers may be interviewing for the same type of posi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it look lik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marL="239760" indent="-239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 a competency based  interview is one in which the interview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41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es on the behaviors and traits that are critical to success 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job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41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es on how the candidate has demonstrated these skills in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undation of this focus is the behavioral question.  The behavioral question requires you, the candidate, to recall and describe a specific situation or event in which you demonstrated (or failed to demonstrate) a skill critical for success in the position for which you are apply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ehavior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ioral ques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looking for information about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The details of a specific situation or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specifi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action or behavior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The outcome of the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ioral question is 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oking fo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yo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“think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would do in a situatio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assessmen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wn strenghts, weakness’ o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y Use this Approach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dvantages of seeking past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educes misunderstandings abou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past exper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educ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effort to “make a good impress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educes emphasis on the “hypothetic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revents personal impressions from affecting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rovides actual examples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knowledge, skills and attrib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s consistency in interviews and assures all key areas for success are covered in the conver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72000" y="5562720"/>
            <a:ext cx="7466400" cy="41148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st Behavior is the Best Predictor of Future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514600" y="3308400"/>
            <a:ext cx="1600200" cy="13716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ehavor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marL="210600" indent="-21060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l ques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looking for information about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uation 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k: details of a specific time or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ion:  the actions you too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ult: 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he outcome of the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call this the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response.   Easy to remember; not so easy to 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l question is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oking fo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“think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would do in a situatio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assessmen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wn stren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weakne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R response – Wh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8580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e your answer (ST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tuation / Tas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Here is the problem/iss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c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Here are the steps I too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sult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These were the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in and Get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ory can show several skill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ready with several stories demonstrating each success factor.  Think about your background, and what you have on your C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R response – How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specific; use an actual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itu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not an imagined 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you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 what did you do? how did you handle the situation or project?  In describing your actions you should tell your interview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9280" indent="-20772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(specifically and in detail) you did (not the team, but yo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9280" indent="-20772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you spoke with, what you had to learn or man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9280" indent="-20772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you arrived at a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sure you focus on what you did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should say the word “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a lo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cribe th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sul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 event.  Although it is good to use a successful example, you can use failed examples as well – but make sure you demonstrate what you learned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0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9480" y="342900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 Competen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of core competencies required in many jobs are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munication skil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livering Result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Use of Initiativ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lanning and Organiz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nalytical and/or Strategic Think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Building relationship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eam Work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reparation for a Competency Based Interview the experienced interviewer will draw up a list of questions relating to each competency and all directed towards discovering if you have those skills necessary for the jo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sco’s Core Competencies – Sales Ro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7000"/>
          </a:bodyPr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istening and presentation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explain complex issues in a simplified m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l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deal with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take construc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ood team player and l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-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s Pers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n to be i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isk-averse, uses initi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d to succ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09480" y="152388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8580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Choose these Competencies to Measure if Candidates will Fit into Cisco’s Cul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3809520"/>
            <a:ext cx="3657600" cy="217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inuous improv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ality te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ing Back/Trust/Fair/Integ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power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3280" y="3733560"/>
            <a:ext cx="4140360" cy="217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5000"/>
          </a:bodyPr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it con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Technology Relig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ket Transi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 Commun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m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rive 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0" y="1828800"/>
            <a:ext cx="9155160" cy="1676520"/>
            <a:chOff x="0" y="1828800"/>
            <a:chExt cx="9155160" cy="1676520"/>
          </a:xfrm>
        </p:grpSpPr>
        <p:pic>
          <p:nvPicPr>
            <p:cNvPr id="179" name="Picture 6" descr="man with computer"/>
            <p:cNvPicPr/>
            <p:nvPr/>
          </p:nvPicPr>
          <p:blipFill>
            <a:blip r:embed="rId1"/>
            <a:stretch/>
          </p:blipFill>
          <p:spPr>
            <a:xfrm>
              <a:off x="2430360" y="1839960"/>
              <a:ext cx="2167200" cy="16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7" descr="man and women loking at papers"/>
            <p:cNvPicPr/>
            <p:nvPr/>
          </p:nvPicPr>
          <p:blipFill>
            <a:blip r:embed="rId2"/>
            <a:stretch/>
          </p:blipFill>
          <p:spPr>
            <a:xfrm>
              <a:off x="0" y="1839960"/>
              <a:ext cx="244332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8"/>
            <p:cNvSpPr/>
            <p:nvPr/>
          </p:nvSpPr>
          <p:spPr>
            <a:xfrm>
              <a:off x="2398680" y="1828800"/>
              <a:ext cx="7452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Picture 9" descr="SHAKE HANDS WITH GRAPH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4592520" y="1849680"/>
              <a:ext cx="21974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0" descr="man women and computer"/>
            <p:cNvPicPr/>
            <p:nvPr/>
          </p:nvPicPr>
          <p:blipFill>
            <a:blip r:embed="rId4"/>
            <a:stretch/>
          </p:blipFill>
          <p:spPr>
            <a:xfrm>
              <a:off x="6705720" y="1839960"/>
              <a:ext cx="24494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11"/>
            <p:cNvSpPr/>
            <p:nvPr/>
          </p:nvSpPr>
          <p:spPr>
            <a:xfrm>
              <a:off x="6705720" y="1828800"/>
              <a:ext cx="6660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4525920" y="1828800"/>
              <a:ext cx="6660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09480" y="396252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ing for a Competency Based Int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st common type ar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al Based Interview Ques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These are also called Situational and are used as a tool to discover how your behavior in a previous role or situation can contribute to your performance in the job being recruited f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 Based Interview Ques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1360" indent="-2332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 me about a time.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 an example of a &lt;Stressful, Successful, Important&gt; situation you found yourself in and what did you do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a situation which caused you a problem and tell me how you resolved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hing to be aware of; even if your interview is not described as such, it is very likely in today's recruitment market that you will be ask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etency Based Interview Ques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" y="5813280"/>
            <a:ext cx="8229600" cy="74052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best preparation is to know your own background and know the job description of the job you are applying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09480" y="449568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1131840" y="5094360"/>
            <a:ext cx="2535120" cy="325440"/>
          </a:xfrm>
          <a:prstGeom prst="roundRect">
            <a:avLst>
              <a:gd name="adj" fmla="val 16667"/>
            </a:avLst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Review – Cisco’s Core Compet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523520"/>
            <a:ext cx="7940880" cy="4953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istening and presentation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explain complex issues in a simplified m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l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deal with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take construc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ood team player and l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-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s Pers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n to be i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ori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isk-averse, uses initi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d to succ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For Example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196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Competency: Customer Ori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440" indent="-257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efinition: A willingness to help and serve others and meet their needs whether they are internal or external customers.  Understands urg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uestion: Tell me about a time when you felt effective in dealing with a customer (internal or external).  What was the outcome? How and when did you communicate your findings to the custom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692360" y="4038480"/>
            <a:ext cx="6480000" cy="2592360"/>
          </a:xfrm>
          <a:prstGeom prst="roundRect">
            <a:avLst>
              <a:gd name="adj" fmla="val 16667"/>
            </a:avLst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Respons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Verdana"/>
              </a:rPr>
              <a:t>I recently completed my thesis and presented my findings to the academic review board.  I asked my advisor for the background of the board members and saw that two had a specialization in the topic of my thesis so I knew to expect a lot of challenging questions.  I made sure that I had double checked all of my data and knew my sources before the review meeting so I was able to answer even the most obsecure questions.  Also my advisor had mentioned that there was one member of the board who had problems with his sight so I made sure that all of my documents were printed in a larger font to make them easier to rea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its your turn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5560" y="1523520"/>
            <a:ext cx="7940880" cy="4953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istening and presentation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explain complex issues in a simplified m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l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deal with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take construc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ood team player and l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-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s Pers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n to be i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ori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isk-averse, uses initi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d to succ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9144000" cy="4280040"/>
            <a:chOff x="0" y="0"/>
            <a:chExt cx="9144000" cy="4280040"/>
          </a:xfrm>
        </p:grpSpPr>
        <p:sp>
          <p:nvSpPr>
            <p:cNvPr id="204" name="Rectangle 3"/>
            <p:cNvSpPr/>
            <p:nvPr/>
          </p:nvSpPr>
          <p:spPr>
            <a:xfrm>
              <a:off x="0" y="0"/>
              <a:ext cx="9144000" cy="136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Group 4"/>
            <p:cNvGrpSpPr/>
            <p:nvPr/>
          </p:nvGrpSpPr>
          <p:grpSpPr>
            <a:xfrm>
              <a:off x="0" y="2119320"/>
              <a:ext cx="9144000" cy="2160720"/>
              <a:chOff x="0" y="2119320"/>
              <a:chExt cx="9144000" cy="2160720"/>
            </a:xfrm>
          </p:grpSpPr>
          <p:sp>
            <p:nvSpPr>
              <p:cNvPr id="206" name="Rectangle 5"/>
              <p:cNvSpPr/>
              <p:nvPr/>
            </p:nvSpPr>
            <p:spPr>
              <a:xfrm>
                <a:off x="0" y="2119320"/>
                <a:ext cx="8915400" cy="2152800"/>
              </a:xfrm>
              <a:prstGeom prst="rect">
                <a:avLst/>
              </a:prstGeom>
              <a:solidFill>
                <a:srgbClr val="306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7" name="Picture 6" descr="MAE18802"/>
              <p:cNvPicPr/>
              <p:nvPr/>
            </p:nvPicPr>
            <p:blipFill>
              <a:blip r:embed="rId1"/>
              <a:srcRect l="13815" t="0" r="0" b="13714"/>
              <a:stretch/>
            </p:blipFill>
            <p:spPr>
              <a:xfrm>
                <a:off x="5638680" y="2128680"/>
                <a:ext cx="3505320" cy="215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8" name="Rectangle 7"/>
          <p:cNvSpPr/>
          <p:nvPr/>
        </p:nvSpPr>
        <p:spPr>
          <a:xfrm>
            <a:off x="57240" y="2919240"/>
            <a:ext cx="55767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a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5"/>
          <p:cNvGrpSpPr/>
          <p:nvPr/>
        </p:nvGrpSpPr>
        <p:grpSpPr>
          <a:xfrm>
            <a:off x="0" y="0"/>
            <a:ext cx="9144000" cy="4371840"/>
            <a:chOff x="0" y="0"/>
            <a:chExt cx="9144000" cy="4371840"/>
          </a:xfrm>
        </p:grpSpPr>
        <p:pic>
          <p:nvPicPr>
            <p:cNvPr id="210" name="Picture 3" descr="Cisco_Logo_RGB-2Color_Video"/>
            <p:cNvPicPr/>
            <p:nvPr/>
          </p:nvPicPr>
          <p:blipFill>
            <a:blip r:embed="rId1"/>
            <a:stretch/>
          </p:blipFill>
          <p:spPr>
            <a:xfrm>
              <a:off x="2743200" y="2362320"/>
              <a:ext cx="380988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4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Interview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403280" y="1916280"/>
            <a:ext cx="2448000" cy="1296720"/>
          </a:xfrm>
          <a:prstGeom prst="rect">
            <a:avLst/>
          </a:prstGeom>
          <a:solidFill>
            <a:srgbClr val="0183b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Open the interview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172200" y="5029200"/>
            <a:ext cx="2448000" cy="1297080"/>
          </a:xfrm>
          <a:prstGeom prst="rect">
            <a:avLst/>
          </a:prstGeom>
          <a:solidFill>
            <a:srgbClr val="0183b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Close the Inter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0400" y="3276720"/>
            <a:ext cx="3745080" cy="1728720"/>
          </a:xfrm>
          <a:prstGeom prst="rect">
            <a:avLst/>
          </a:prstGeom>
          <a:solidFill>
            <a:srgbClr val="0183b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Gathering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886200" y="1905120"/>
            <a:ext cx="316872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Introduce yourself, establish rap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et your interviewer tell you what the agenda for the discussion will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sten to the interviewer, they will give you their expectations of the inter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948360" y="3645000"/>
            <a:ext cx="20163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Behavioral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Technic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eneral CV Information confi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195640" y="5013360"/>
            <a:ext cx="388908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sk the questions you 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ry to obtain more specific details about the job 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sk the interviewer what the next steps are and when you can expect to hear back from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ody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0000"/>
          </a:bodyPr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fens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Cross arms or legs, gesture with arm, hand or fi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nsec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ting fingernails, thumb rubb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Nerv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Sighs, ear tugging, sweating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Fru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Wringing hands, sharp exhales, rubbing back of neck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uspic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Stroke the nose, rub the eyes, diagonal st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pen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Opened hands, unbuttoned jacket, uncrossed le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Reflectiv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Rubbing chin, touching cheek, pinching bridge of no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314720" y="6095880"/>
            <a:ext cx="6842880" cy="41148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Not Just What You Say, It’s How You Say I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 Prepa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interviewer will prepare prior to every interview with specific questions for each candidate…we expect the same from you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my company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you checked out our web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you know who our competitors 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you understand the job your applying f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id you apply to this posi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 you see your career develop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13440" y="5562720"/>
            <a:ext cx="8264880" cy="41148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an make the difference between getting the job or n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09480" y="205740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widely used in business environments and refers to the skills that are necessary to achieve an effective performance level in the job. Every job will have a set of key competencies, some of which are essential and others desired and all are required to do the job proper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marL="242640" indent="-24264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 required in many jobs are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munication skill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livering Resul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se of Initiat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lanning and Organiz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alytical and/or Strategic Think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uilding relationshi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eam Work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9480" y="2590920"/>
            <a:ext cx="7162920" cy="76176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0:04:44Z</dcterms:created>
  <dc:creator>Cisco Systems, Inc.</dc:creator>
  <dc:description/>
  <dc:language>en-US</dc:language>
  <cp:lastModifiedBy>Information Technology</cp:lastModifiedBy>
  <dcterms:modified xsi:type="dcterms:W3CDTF">2010-04-12T18:17:03Z</dcterms:modified>
  <cp:revision>122</cp:revision>
  <dc:subject/>
  <dc:title>Slide 1</dc:title>
</cp:coreProperties>
</file>